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48.wmf" ContentType="image/x-wmf"/>
  <Override PartName="/ppt/media/image28.png" ContentType="image/png"/>
  <Override PartName="/ppt/media/image29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6881760" cy="9296280"/>
          </a:xfrm>
          <a:custGeom>
            <a:avLst/>
            <a:gdLst>
              <a:gd name="textAreaLeft" fmla="*/ 360 w 6881760"/>
              <a:gd name="textAreaRight" fmla="*/ 6881400 w 688176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9178">
                <a:moveTo>
                  <a:pt x="5" y="0"/>
                </a:moveTo>
                <a:arcTo wR="5" hR="5" stAng="16200000" swAng="-5400000"/>
                <a:lnTo>
                  <a:pt x="0" y="29173"/>
                </a:lnTo>
                <a:arcTo wR="5" hR="5" stAng="10800000" swAng="-5400000"/>
                <a:lnTo>
                  <a:pt x="21595" y="2917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8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dt" idx="9"/>
          </p:nvPr>
        </p:nvSpPr>
        <p:spPr>
          <a:xfrm>
            <a:off x="3897000" y="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9320"/>
                <a:tab algn="l" pos="2773440"/>
                <a:tab algn="l" pos="3697200"/>
                <a:tab algn="l" pos="4622760"/>
                <a:tab algn="l" pos="5546880"/>
                <a:tab algn="l" pos="6470640"/>
                <a:tab algn="l" pos="7396200"/>
                <a:tab algn="l" pos="8319960"/>
                <a:tab algn="l" pos="9244080"/>
                <a:tab algn="l" pos="10169640"/>
                <a:tab algn="l" pos="1062504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9320"/>
                <a:tab algn="l" pos="2773440"/>
                <a:tab algn="l" pos="3697200"/>
                <a:tab algn="l" pos="4622760"/>
                <a:tab algn="l" pos="5546880"/>
                <a:tab algn="l" pos="6470640"/>
                <a:tab algn="l" pos="7396200"/>
                <a:tab algn="l" pos="8319960"/>
                <a:tab algn="l" pos="9244080"/>
                <a:tab algn="l" pos="10169640"/>
                <a:tab algn="l" pos="10625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ldImg"/>
          </p:nvPr>
        </p:nvSpPr>
        <p:spPr>
          <a:xfrm>
            <a:off x="1117440" y="696600"/>
            <a:ext cx="4646880" cy="34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7160" bIns="471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2240" cy="4181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8827920"/>
            <a:ext cx="298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10"/>
          </p:nvPr>
        </p:nvSpPr>
        <p:spPr>
          <a:xfrm>
            <a:off x="3897000" y="882972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9320"/>
                <a:tab algn="l" pos="2773440"/>
                <a:tab algn="l" pos="3697200"/>
                <a:tab algn="l" pos="4622760"/>
                <a:tab algn="l" pos="5546880"/>
                <a:tab algn="l" pos="6470640"/>
                <a:tab algn="l" pos="7396200"/>
                <a:tab algn="l" pos="8319960"/>
                <a:tab algn="l" pos="9244080"/>
                <a:tab algn="l" pos="10169640"/>
                <a:tab algn="l" pos="1062504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9320"/>
                <a:tab algn="l" pos="2773440"/>
                <a:tab algn="l" pos="3697200"/>
                <a:tab algn="l" pos="4622760"/>
                <a:tab algn="l" pos="5546880"/>
                <a:tab algn="l" pos="6470640"/>
                <a:tab algn="l" pos="7396200"/>
                <a:tab algn="l" pos="8319960"/>
                <a:tab algn="l" pos="9244080"/>
                <a:tab algn="l" pos="10169640"/>
                <a:tab algn="l" pos="10625040"/>
              </a:tabLst>
            </a:pPr>
            <a:fld id="{C4B6BD6D-F798-431C-BA0C-103A64F44DA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7680" y="696960"/>
            <a:ext cx="458784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8680" y="4416480"/>
            <a:ext cx="55054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85" name="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9320"/>
                <a:tab algn="l" pos="2773440"/>
                <a:tab algn="l" pos="3697200"/>
                <a:tab algn="l" pos="4622760"/>
                <a:tab algn="l" pos="5546880"/>
                <a:tab algn="l" pos="6470640"/>
                <a:tab algn="l" pos="7396200"/>
                <a:tab algn="l" pos="8319960"/>
                <a:tab algn="l" pos="9244080"/>
                <a:tab algn="l" pos="10169640"/>
                <a:tab algn="l" pos="10625040"/>
              </a:tabLst>
            </a:pPr>
            <a:fld id="{11CDFAD5-3ACD-4008-B7F5-579D3C136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CC5B6-9254-4302-820C-697E282A55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6CC50-9183-47D2-A7B6-D140ADF9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27E2A-9ED3-44B2-A6D6-B71E5E60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99049-F74B-4FAB-BE0B-DD32ED5931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77903-445E-466A-8E79-B1B2B38888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C8479-24A5-45AD-B19C-24B54742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E6631-2AB7-4BAC-A760-B72AF0C0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F9C0A-89F5-4340-817D-DC559010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2F7C8-4FA7-4419-B5AD-DF07A5C8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B816A-60E1-40A5-B254-81B635C4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0FDB2-3986-4BCE-9CAF-C5CA18E0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3A7C2-26B8-4C5E-B188-CB409978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4CD5F-2A13-4A31-803D-65048632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ED9DD-C586-43B9-B63E-3503645F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01894-0609-415E-B6BA-9364E0F4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BB716-6646-476F-B13A-0E23B488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B5376-D069-4813-B300-2AC5BA0BC5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461C-876B-4D27-86B2-4019D625C5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98EA-8FBB-4937-8440-47F90FF2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A256-0689-4210-B9B9-37DFFA25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E474-A561-41CC-8338-EEF01BAE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4E01-1882-4D74-A4B4-F0206D22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6642F-08C6-4CA8-96B4-14DC57E1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897F-918A-4B9B-B935-22E5980D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1752-2FDE-4F5F-8705-A2877DC7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A74E-8F5D-43E3-92C1-216FFB17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87AC-6216-46A8-BBE4-87DF4519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6040-645A-4D68-B9B3-F8804812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F8E8-5E08-489F-93DE-20D4686A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2D56-F015-49E5-8338-72FAEB8E4F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E7B44-D819-4F59-8CE4-39330B35FD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478EE-9B6B-4DD5-9ECC-5CC62E75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88009-E0AC-4DF4-8F97-C9840A1C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993CB-AA3B-4234-87C9-E9724370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BB7E5-5D0C-47F1-920A-50532FF6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5C329-FFAC-474C-87C0-130817D3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47F1C-DF45-4722-830E-114BD75D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431B3-D660-44BE-9E28-2187935E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79EDF-A300-4B34-B318-0E9B3F7C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94835-9F87-49CC-A75A-ABEBC1B3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5444F-FB93-4C94-814E-D9FB5510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AEABB-3F74-4DA0-9CD6-4373239B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CF60B-5A95-44DE-A83C-A88FA8D577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CDD04-FA5B-4212-942F-569BCA81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4BC86-E0E9-438B-92DF-A959F5E1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57C5-79B7-47CE-AA5B-10ABB24E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60A5E-4239-4C17-A5E0-E280E296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4E3C1-9DBE-433D-922F-A6BFC015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90081F-88EF-49E1-A47E-A5A57E67974F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61640" cy="646200"/>
              <a:chOff x="-19080" y="203040"/>
              <a:chExt cx="9161640" cy="6462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808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61640" cy="646200"/>
              <a:chOff x="-19080" y="203040"/>
              <a:chExt cx="9161640" cy="64620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808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0FECA80-8C6A-4B1A-940C-414DB7A586D5}" type="slidenum">
              <a: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61640" cy="646200"/>
              <a:chOff x="-19080" y="203040"/>
              <a:chExt cx="9161640" cy="6462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808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B3FF1476-DB51-4E94-8578-01884A470BE8}" type="slidenum">
              <a: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6BF9B-5D3B-4B0E-8140-11AF94060C7B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828800" y="1600200"/>
            <a:ext cx="54864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ixed-Signal Circui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esign for Simple Spiking Neuron Mod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3429000"/>
            <a:ext cx="34290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bdullah H. Ozc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amshi Chatl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CE 6332 – Fall 200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niversity of Virgini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572000" y="1600200"/>
            <a:ext cx="4343400" cy="3429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14400" y="68580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imulation 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124160" cy="3456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572000" y="1828800"/>
            <a:ext cx="41148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572000" y="1816200"/>
            <a:ext cx="4572000" cy="36702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228600" y="1752480"/>
            <a:ext cx="44625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600200" y="914400"/>
            <a:ext cx="60199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800600" y="114300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4114800" cy="5229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114800" y="1143000"/>
            <a:ext cx="45244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6320" y="1371600"/>
            <a:ext cx="815328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C results without gain booster stag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6782040" cy="527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43000" y="9144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C results using gain booster stag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04920" y="1495440"/>
            <a:ext cx="8153280" cy="53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57200" y="137160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371600"/>
            <a:ext cx="3429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DC (4bit) Summar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Technology:  0.6 u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Avg Power:   14.2 m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Max Power:  23.9 m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Transistors used: 52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Supply Voltage: 5 V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alog Range: 1 V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ampling Rate: 100 MHz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-9360" y="4648320"/>
            <a:ext cx="9153360" cy="15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9480" y="1082520"/>
            <a:ext cx="2050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067360" y="4371840"/>
            <a:ext cx="3162240" cy="1114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143000" y="2425680"/>
            <a:ext cx="5029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10^11 neurons, each neuron 10-10^5 synaps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Uses less power than your refrigerator ligh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Power matters; decreasing energy/spik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133640" y="4057560"/>
            <a:ext cx="298116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zhikevich’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Spiking Neuron Mod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66294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VLSI Circuit of Izhikevich’s Model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7561440" cy="3762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85800" y="6095880"/>
            <a:ext cx="815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(Jayawan H. B. Wijekon, Piotr Dudek (2007)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piking and Bursting Firing Patterns of a Compact VLSI Cortical Neuron Circuit, Int. Joint   Conference on Neural Network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VLSI Circuit (0.35 μm</a:t>
            </a:r>
            <a:r>
              <a:rPr b="0" lang="en-US" sz="4600" spc="-1" strike="noStrike">
                <a:solidFill>
                  <a:srgbClr val="04617b"/>
                </a:solidFill>
                <a:latin typeface="Wingdings"/>
                <a:ea typeface="Wingdings"/>
              </a:rPr>
              <a:t></a:t>
            </a: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0.6 μm)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4038840" cy="2886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4419720" y="1828800"/>
            <a:ext cx="3762360" cy="28386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80880" y="5029200"/>
            <a:ext cx="1638360" cy="638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457200" y="5943600"/>
            <a:ext cx="1409760" cy="495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2590920" y="1600200"/>
            <a:ext cx="3333600" cy="704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3352680" y="4952880"/>
            <a:ext cx="5353200" cy="8478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8"/>
          <a:stretch/>
        </p:blipFill>
        <p:spPr>
          <a:xfrm>
            <a:off x="2590920" y="5867280"/>
            <a:ext cx="61149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9144000" cy="3402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143000" y="114300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mparator Pa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6629400" cy="3429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371600" y="7779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tlab Resul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" y="685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ircuit Resul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7486560" cy="2771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457200" y="4267080"/>
            <a:ext cx="74674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ron Circuit Summar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5638680" cy="2689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066680" y="4876920"/>
            <a:ext cx="4419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Transistors used: 1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142.1  mW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119.29 mW (% 17 decrease 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371600" y="16002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uture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2971800"/>
            <a:ext cx="4800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ADC, minimizing power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DAC circuit to drive synaptic input curr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Synaptic Modification Circui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* Levy's learning neuron mod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438280" y="1143000"/>
            <a:ext cx="3886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QUESTIONS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3086280" y="19432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657600" y="4800600"/>
            <a:ext cx="2286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71600" y="1371600"/>
            <a:ext cx="320040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ADC Circui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Neuron Circui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Conclus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-9360" y="2743200"/>
            <a:ext cx="9153360" cy="15717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5335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OG TO DIGITAL CONVER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57200" y="685800"/>
            <a:ext cx="8661240" cy="925560"/>
            <a:chOff x="457200" y="685800"/>
            <a:chExt cx="8661240" cy="925560"/>
          </a:xfrm>
        </p:grpSpPr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457200" y="685800"/>
              <a:ext cx="866124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57200" y="685800"/>
              <a:ext cx="866124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85800" y="2819520"/>
            <a:ext cx="3486240" cy="809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914400" y="3886200"/>
            <a:ext cx="216216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4122720" y="1954080"/>
            <a:ext cx="433548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210200" cy="4343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228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omparator Stag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228600" y="1143000"/>
            <a:ext cx="364824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Gain Booster Stag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4400640" cy="4219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33520" y="5983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nstanti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arper Transitions in the outpu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ull voltage swing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143000" y="1371600"/>
            <a:ext cx="184788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5335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XOR Stag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876320" y="1371600"/>
            <a:ext cx="452448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09480" y="5335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ncoder  Stag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333440" y="1314360"/>
            <a:ext cx="6210360" cy="2800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2971800" y="4572000"/>
            <a:ext cx="3124080" cy="130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8:02:35Z</dcterms:created>
  <dc:creator>vamshichatla</dc:creator>
  <dc:description/>
  <dc:language>en-US</dc:language>
  <cp:lastModifiedBy>hplp</cp:lastModifiedBy>
  <dcterms:modified xsi:type="dcterms:W3CDTF">2009-12-01T16:32:39Z</dcterms:modified>
  <cp:revision>19</cp:revision>
  <dc:subject/>
  <dc:title>Slide 1</dc:title>
</cp:coreProperties>
</file>